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2CF2-013C-452D-A052-0FE10F9DF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5DAF-D8AF-49A2-B83F-B7DE32324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359A-4B06-459A-A0EA-E96C3FE65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2357-5177-4987-AEA3-ACD5654B6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EE50-D3AB-4684-8C13-D58A70C94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D0B4-D55A-4B99-B63C-9E8A81CEE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4163-7075-4121-89DC-15068FB16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FA2B-48CB-453A-B670-CAB192034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3037-4A01-4EEB-9F10-2479569E7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C22A-A9C4-4624-A757-7889207D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A41E-1448-43AA-AFA5-77E3E19D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07BD-1E9E-488F-8F89-400EAEE77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B21064-F780-44C0-AE44-7E6F1A4CD6D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4680" y="63594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9E6769-A548-46BC-9EBD-23288971F0C7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3.png"/><Relationship Id="rId15" Type="http://schemas.openxmlformats.org/officeDocument/2006/relationships/slide" Target="slide9.xml"/><Relationship Id="rId1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3.png"/><Relationship Id="rId15" Type="http://schemas.openxmlformats.org/officeDocument/2006/relationships/slide" Target="slide9.xml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3.png"/><Relationship Id="rId15" Type="http://schemas.openxmlformats.org/officeDocument/2006/relationships/slide" Target="slide9.xml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3.png"/><Relationship Id="rId15" Type="http://schemas.openxmlformats.org/officeDocument/2006/relationships/slide" Target="slide9.xml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3.png"/><Relationship Id="rId15" Type="http://schemas.openxmlformats.org/officeDocument/2006/relationships/slide" Target="slide9.xml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3.png"/><Relationship Id="rId15" Type="http://schemas.openxmlformats.org/officeDocument/2006/relationships/slide" Target="slide9.xml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3.png"/><Relationship Id="rId15" Type="http://schemas.openxmlformats.org/officeDocument/2006/relationships/slide" Target="slide9.xml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3.png"/><Relationship Id="rId15" Type="http://schemas.openxmlformats.org/officeDocument/2006/relationships/slide" Target="slide9.xml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image" Target="../media/image3.png"/><Relationship Id="rId6" Type="http://schemas.openxmlformats.org/officeDocument/2006/relationships/slide" Target="slide5.xml"/><Relationship Id="rId7" Type="http://schemas.openxmlformats.org/officeDocument/2006/relationships/slide" Target="slide3.xml"/><Relationship Id="rId8" Type="http://schemas.openxmlformats.org/officeDocument/2006/relationships/image" Target="../media/image3.png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1.xml"/><Relationship Id="rId12" Type="http://schemas.openxmlformats.org/officeDocument/2006/relationships/slide" Target="slide7.xml"/><Relationship Id="rId13" Type="http://schemas.openxmlformats.org/officeDocument/2006/relationships/image" Target="../media/image3.png"/><Relationship Id="rId14" Type="http://schemas.openxmlformats.org/officeDocument/2006/relationships/slide" Target="slide9.xml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0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5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56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0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7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188" name="Picture 6" descr=""/>
            <p:cNvPicPr/>
            <p:nvPr/>
          </p:nvPicPr>
          <p:blipFill>
            <a:blip r:embed="rId2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Text Box 7"/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0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191" name="Picture 9" descr=""/>
            <p:cNvPicPr/>
            <p:nvPr/>
          </p:nvPicPr>
          <p:blipFill>
            <a:blip r:embed="rId3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Text Box 10"/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3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194" name="Picture 12" descr=""/>
            <p:cNvPicPr/>
            <p:nvPr/>
          </p:nvPicPr>
          <p:blipFill>
            <a:blip r:embed="rId4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Text Box 13"/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6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97" name="Picture 15" descr=""/>
            <p:cNvPicPr/>
            <p:nvPr/>
          </p:nvPicPr>
          <p:blipFill>
            <a:blip r:embed="rId5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Text Box 16"/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9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200" name="Picture 18" descr=""/>
            <p:cNvPicPr/>
            <p:nvPr/>
          </p:nvPicPr>
          <p:blipFill>
            <a:blip r:embed="rId6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Text Box 19"/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0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9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6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6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6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69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72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0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76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79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82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85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88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0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1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92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95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98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0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01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104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0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7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108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111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114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17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120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1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6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124" name="Picture 7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8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" name="Group 9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127" name="Picture 10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11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" name="Group 12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130" name="Picture 13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14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2" name="Group 15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33" name="Picture 16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 Box 17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5" name="Group 18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136" name="Picture 19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20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0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9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14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2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14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5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14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8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49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1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152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0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5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156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8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159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1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162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4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65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7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168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0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1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172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Text Box 7"/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4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175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Text Box 10">
              <a:hlinkClick r:id="rId6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7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178" name="Picture 12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Text Box 13">
              <a:hlinkClick r:id="rId9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0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81" name="Picture 15" descr=""/>
            <p:cNvPicPr/>
            <p:nvPr/>
          </p:nvPicPr>
          <p:blipFill>
            <a:blip r:embed="rId10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Text Box 16">
              <a:hlinkClick r:id="rId11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3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184" name="Picture 18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 Box 19">
              <a:hlinkClick r:id="rId14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5T16:27:14Z</dcterms:created>
  <dc:creator>최봉수</dc:creator>
  <dc:description/>
  <dc:language>en-US</dc:language>
  <cp:lastModifiedBy>맛있다 군만두</cp:lastModifiedBy>
  <dcterms:modified xsi:type="dcterms:W3CDTF">2023-07-13T07:09:29Z</dcterms:modified>
  <cp:revision>4</cp:revision>
  <dc:subject/>
  <dc:title>슬라이드 1</dc:title>
</cp:coreProperties>
</file>