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3B8-8E6C-447D-B66C-F404DF06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DFD-D54E-4C97-9F45-E17C1FB8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0A0-E6EE-45D5-BB27-35299D9F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4E8-1E4D-4382-BC91-60DC944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A62-DA69-4386-982F-62477FC5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EBC-EF45-4CAE-AEEA-C0B2959E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E8B-72C9-41C0-97A8-EC6C30AA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822-39AF-45FF-95D4-A2FE8769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C04-747F-4043-BF73-7578729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D8D-039C-48CB-9828-201735F4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C99-8905-4EED-9A38-3D18E4BE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A0C-E9F1-4387-A67E-C4D4BA6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57B7A-17BD-49B3-A631-5954E124C3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F03E3-E000-4F92-B8E5-A7FB76DC18C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3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1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6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8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2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4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6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7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9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0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6:27:14Z</dcterms:created>
  <dc:creator>최봉수</dc:creator>
  <dc:description/>
  <dc:language>en-US</dc:language>
  <cp:lastModifiedBy>맛있다 군만두</cp:lastModifiedBy>
  <dcterms:modified xsi:type="dcterms:W3CDTF">2023-07-13T07:09:29Z</dcterms:modified>
  <cp:revision>4</cp:revision>
  <dc:subject/>
  <dc:title>슬라이드 1</dc:title>
</cp:coreProperties>
</file>