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33C-9527-42E6-BAE4-40E60FF4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025-83BE-4475-BD9C-FC0AF8E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9FF-5B03-437A-855D-9D5A4B04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1DE-E055-4046-86B1-77AC8985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4DC-83DD-46BF-B50D-E68568A1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786-8B73-4759-BD3A-7F2316B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8D5-9E15-4AB5-BB38-3EA41053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B58-C8D8-4ED0-ADCA-D0C3D52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26A-054B-43CD-860A-E2F50A0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2E4-642D-4CAC-B1A1-7450497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DA0-7936-4D43-85D4-2CFD2FD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DF8-51D0-45E3-AC9C-6ED42E5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EDD25-3668-483C-AB0E-353E8B3946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6C413-5115-474E-9E4E-4B28D10E884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image" Target="../media/image3.pn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1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13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16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20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23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26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29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32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3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3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4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4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4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5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5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5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6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6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6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7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7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77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80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8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8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9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93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96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0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1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1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1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2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2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2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32" name="Picture 4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35" name="Picture 7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38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1">
              <a:hlinkClick r:id="rId7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41" name="Picture 13" descr=""/>
            <p:cNvPicPr/>
            <p:nvPr/>
          </p:nvPicPr>
          <p:blipFill>
            <a:blip r:embed="rId8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4">
              <a:hlinkClick r:id="rId9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44" name="Picture 1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7">
              <a:hlinkClick r:id="rId12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48" name="Picture 4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51" name="Picture 7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54" name="Picture 10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11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57" name="Picture 13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14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60" name="Picture 16" descr=""/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17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6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8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3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4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5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6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7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20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44:48Z</dcterms:created>
  <dc:creator>최봉수</dc:creator>
  <dc:description/>
  <dc:language>en-US</dc:language>
  <cp:lastModifiedBy>맛있다 군만두</cp:lastModifiedBy>
  <dcterms:modified xsi:type="dcterms:W3CDTF">2024-10-01T02:43:49Z</dcterms:modified>
  <cp:revision>3</cp:revision>
  <dc:subject/>
  <dc:title>슬라이드 1</dc:title>
</cp:coreProperties>
</file>