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B3D-AE17-498E-804B-4C7C2C6C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54B-DC75-4AE7-8F4D-9DA4A0C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05B-2BDE-48BD-84B3-3345B59A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0CB-B65E-408D-9A55-69B3E411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095-E0A3-4050-8E36-150492CC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E11-E306-45F3-A98D-717B30C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74D-7FAC-43CE-A2AE-6AC01F54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559-2968-4691-9284-2C405998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25C-1816-4487-9EF5-E65BF04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18B-64B8-4A35-A813-B63F692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CCB-FC71-4DFD-B39C-A7E63C2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CCC-613A-42F8-9DDB-17B3CB2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D9B13-2C7D-4748-9245-A0CC5D9FC6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50189-3A8C-4A77-8A9D-1BF446FA97E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image" Target="../media/image3.pn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9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9.xml"/><Relationship Id="rId15" Type="http://schemas.openxmlformats.org/officeDocument/2006/relationships/image" Target="../media/image3.png"/><Relationship Id="rId16" Type="http://schemas.openxmlformats.org/officeDocument/2006/relationships/slide" Target="slide17.xm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1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13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16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20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23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26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29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32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3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3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4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4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4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5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5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5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6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6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6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7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7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77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80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8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8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9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93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96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0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1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1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1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2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2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2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32" name="Picture 4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35" name="Picture 7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38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1">
              <a:hlinkClick r:id="rId7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41" name="Picture 13" descr=""/>
            <p:cNvPicPr/>
            <p:nvPr/>
          </p:nvPicPr>
          <p:blipFill>
            <a:blip r:embed="rId8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4">
              <a:hlinkClick r:id="rId9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44" name="Picture 1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7">
              <a:hlinkClick r:id="rId12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348" name="Picture 4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351" name="Picture 7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354" name="Picture 10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11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357" name="Picture 13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14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360" name="Picture 16" descr=""/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17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6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8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2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3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4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5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6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7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8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20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8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3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44:48Z</dcterms:created>
  <dc:creator>최봉수</dc:creator>
  <dc:description/>
  <dc:language>en-US</dc:language>
  <cp:lastModifiedBy>맛있다 군만두</cp:lastModifiedBy>
  <dcterms:modified xsi:type="dcterms:W3CDTF">2024-10-01T02:43:49Z</dcterms:modified>
  <cp:revision>3</cp:revision>
  <dc:subject/>
  <dc:title>슬라이드 1</dc:title>
</cp:coreProperties>
</file>