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51C-E1B4-43AB-AF61-FC76BD1A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DF1-C4A6-4EA0-8ACF-8DD691F5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C25-BD3A-4B04-8134-CBD488E8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A91-7160-4710-9D40-2E68EC1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110-E81C-4162-9A25-4C5AE0AD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F55-AF9E-4BF5-BD8A-77B3DC1E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CD1-CF98-4670-951C-0C6F64C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3B5-AF6C-48DD-BE6D-819776A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E23-F36D-4387-8562-BD6C1DBF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AAA-E49B-45AC-8AAE-061641B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1F7-2692-47D0-A3C0-7EE36FA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A74-57A9-4CA6-AF82-9A44DBC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D35BF-8207-4657-8F18-6FA68204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56F54-1D0A-4D5C-8724-EF9E72D1A51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3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4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55:41Z</dcterms:created>
  <dc:creator>최봉수</dc:creator>
  <dc:description/>
  <dc:language>en-US</dc:language>
  <cp:lastModifiedBy>군만두 맛있다</cp:lastModifiedBy>
  <dcterms:modified xsi:type="dcterms:W3CDTF">2023-07-12T06:10:50Z</dcterms:modified>
  <cp:revision>2</cp:revision>
  <dc:subject/>
  <dc:title>슬라이드 1</dc:title>
</cp:coreProperties>
</file>