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59FF-54C3-455D-BF3F-53473F361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D975-3E5C-40D0-B295-AAD2BC72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F22D-4ADA-4366-A1D9-E444DA0FB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633E-86E0-470C-A15F-4DC696FC9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2BA4-19F6-474E-9839-C1A92729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53B6-937D-4291-B92F-3F900414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E889-67D5-4AE4-A935-E0AA94C5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0AA7-F667-45FC-A897-EF945F7D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04DF-F21A-44A1-BD94-95110DB3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077A-7716-4040-BBB2-4794E215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D28E-4D40-4801-92BF-7B0AD51D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8805-3D42-426B-9F54-BA036F68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DC8365-4AE4-442F-958B-D7A99DBABF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707B9D-18C1-4AEA-A874-8204F41D8807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6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7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8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9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10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1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2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3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4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5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0:55:41Z</dcterms:created>
  <dc:creator>최봉수</dc:creator>
  <dc:description/>
  <dc:language>en-US</dc:language>
  <cp:lastModifiedBy>군만두 맛있다</cp:lastModifiedBy>
  <dcterms:modified xsi:type="dcterms:W3CDTF">2023-07-12T06:10:50Z</dcterms:modified>
  <cp:revision>2</cp:revision>
  <dc:subject/>
  <dc:title>슬라이드 1</dc:title>
</cp:coreProperties>
</file>