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E3AA-98A8-487D-B74C-568E7F56F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ttl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is the appearance of uneven 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51DD-386E-4A01-8432-4238212C3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3EAE-645A-4C85-A2DE-6F498284C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AE6D-E87F-46BB-85C1-8479BE05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EFAC-227B-45B6-87CB-1D18F6980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7B3E-98A6-497B-823C-1858705AF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494B-8886-4210-A052-1E2CA5DE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8BB2-C609-47D0-8706-F4270CE2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BBAF-3C2F-4738-A578-A90BABDF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0047-6CD9-46ED-8BF2-466A685C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4763-1002-4413-A7A2-1B37AB0B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E863-1FCD-467E-B72C-87B32BBB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145A-DB41-4C03-B3DD-3EBE790D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9F74-5B72-47D3-AF88-13CBF104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3B1D-693D-43A3-8703-DEBE5060074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6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350532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DS2033 NUTRITION FOR FOODSERVICE INDU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F5D6-189F-4F83-A940-E2067FB65B7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80520" y="5331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Absor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Absorption is best during growth &amp; pregnanc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Higher absorption rate for younger people than for older peop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ostmenopausal women (high risk for osteoporosis) – often absorb the least Calci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ertain substance interfere with Calcium absorption eg. tannins in te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HOSPHOR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04920" y="8380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ou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 algn="just">
              <a:spcBef>
                <a:spcPts val="575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Food rich in protein &amp; calcium also rich in phosphorus such as meat and mil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 algn="just">
              <a:spcBef>
                <a:spcPts val="575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Widely distributed in foods eg. Poultry, eggs, legumes, whole-grain fo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 algn="just">
              <a:spcBef>
                <a:spcPts val="575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Fruits &amp; vegetables are generally low in phosphor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DD53-5893-4B4C-83CF-CC53C1513D9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09120" y="456840"/>
            <a:ext cx="8001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ogether with calcium involved in building bones and tee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art of DNA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Acts as coenzyme to release of energy from fat, protein &amp; carbohydr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e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Very r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OD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04920" y="609480"/>
            <a:ext cx="86104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a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igh in shellfish &amp; MS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ow in fresh vegetables, fruits &amp; me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ct as electrolytes involved in water &amp; acid bal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ater Balance (Moving water inside and outside the cell &amp; in blood vessel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cid Balance (Neutralize various acids and bases in the body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uscles contraction &amp; transmission of nerves impuls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727A-F695-4AA6-9201-13E7D3412B5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533520" y="6858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e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46120" indent="-273240" algn="just">
              <a:spcBef>
                <a:spcPts val="575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Exces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High blood pressure 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hypertens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) which increase risk factor for heart disease, stroke &amp; kidney dise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E MINER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0948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ou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Meat, poultry &amp; fis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Whole-grain, fortified cereals, legumes, green leafy vege &amp; eg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Fun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omponent in hemoglobin that carry oxygen around blood circ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art of myoglobin (a muscle protein) that store and carry oxygen for musc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0699-7A30-44BB-A039-D0A1ECA4D4A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04920" y="22860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e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________________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– size &amp; number of red blood cells reduced (carry less hemoglobi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ommon among woman of childbearing age, pregnant woman, infants &amp; children, &amp; teenage gir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x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iver dam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emochromatos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(iron overload) – caused by genetic disorder; more prevalence in m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ymptoms: fatigue, joint pain, skin that turns gray/bronze &amp; liver dise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456840"/>
            <a:ext cx="8153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Absor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Absorption is greatest when iron in the body reduc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Also when there is high needs for red blood cells such as during menstrual cycle or pregnanc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Absorption can be facilitated by Vitam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Animal source better absorbed than plant sou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ecrease absorption : coffee, tea, phytic acid in whole grain, oxalic acid (spinach) and calcium suppl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IN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80880" y="533160"/>
            <a:ext cx="83822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ou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otein-containing food eg. meat, poultry and shellfis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Whole grain, fortified cereals, some legumes and dairy produc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Fun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Act as cofactor – necessary for enzyme activity (involves in protein, carbohydrate &amp; fat metabolism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Assist in wound healing, bone formation, cell reproduction &amp; DNA synthes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A0A6-8078-4108-9342-F7EE71979E5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8240" y="16761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Minerals are absorb in the body to varying degrees – better absorption from animal source than plant source because plant food contains fiber and other substances than bind miner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Excessive consumption lead to toxic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80880" y="228600"/>
            <a:ext cx="83822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e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dults – poor appetite, diarrhea, skin rash &amp; hair lo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hildren - growth retardation, delayed sexual maturation, decreased sense of taste, poor appetite, delayed wound healing and immune deficien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x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an lead to copper deficiency – less iron is absor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Zn supplement should be avoided unless prescribe – fat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bsor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hyta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n whole-grain bread, cereals &amp; legumes can reduce zinc absorp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7243-2DBB-4172-A950-E86A1916AD6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ODINE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04920" y="45684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altwater fish, grain grown in iodine rich soi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lso can be found in milk, baked goods and food color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roduction and normal functioning of thyroid gla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yroid in responsible for producing hormones that maintain normal level of metabolism for normal growth, bones development and protein synthes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e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Goit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– thyroid gland becomes lar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renitis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(mental retardation) in fetu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7CF9-E9BF-47A9-91B7-442D4C89AA5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http://t1.gstatic.com/images?q=tbn:ANd9GcRc6HldNmO2AZ7W7RW1LARPBVNaZ_AD4qQjovriOiXT5FZqKFMI"/>
          <p:cNvPicPr/>
          <p:nvPr/>
        </p:nvPicPr>
        <p:blipFill>
          <a:blip r:embed="rId1"/>
          <a:stretch/>
        </p:blipFill>
        <p:spPr>
          <a:xfrm>
            <a:off x="7162920" y="4495680"/>
            <a:ext cx="1638360" cy="21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UOR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0520" y="68544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rinking water, tea &amp; fi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dded in the tooth pas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trengthens tee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e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ead to tooth dec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x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ead to mil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fluoros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a condition that causes white opaque areas on tee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evere cases causes a distinct brownish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ottl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(the appearance of uneven spots) or discolor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F094-E52A-44C2-AB6B-C7050DF2357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EXERCIS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List the disease that might occur as the result of the deficiency of following mineral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alc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Ir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Iod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re are 2 categories of mineral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____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89120" indent="-5144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eeded by the body more than 100 mg/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89120" indent="-5144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alcium, Chloride, Magnesium, Phosphorus, Potassium, Sodium, Sulf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89120" indent="-514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____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eeded by the body less than 100 mg/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89120" indent="-5144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hromium, Copper, Fluoride, Iodine, Iron, Manganese, Molybdenum, Selenium, Zin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JOR MINER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LC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440" y="106632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Sour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Milk &amp; milk product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Canned salmon &amp; sardine (eaten with bones), oys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Fortified food eg. Orange juice &amp; soy mil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Green vegetables eg. broccoli, kale, colla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Other vegetables eg. spinach &amp; parsley are calcium-rich but contain a binder called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oxalic acid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which makes it hard to absorb by the bod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bexar-tx.tamu.edu/HomeHort/F1Column/2007%20Articles/Plant%20of%20the%20Week/Vates%20collards.jpg"/>
          <p:cNvPicPr/>
          <p:nvPr/>
        </p:nvPicPr>
        <p:blipFill>
          <a:blip r:embed="rId1"/>
          <a:stretch/>
        </p:blipFill>
        <p:spPr>
          <a:xfrm>
            <a:off x="228600" y="228600"/>
            <a:ext cx="2590920" cy="345456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2971800" y="3049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http://t2.gstatic.com/images?q=tbn:ANd9GcQf-MHQfoxItkPscdOc_Bnzj0CM8en8aWnQigUAvlnHNBFXjSsaqw"/>
          <p:cNvPicPr/>
          <p:nvPr/>
        </p:nvPicPr>
        <p:blipFill>
          <a:blip r:embed="rId2"/>
          <a:stretch/>
        </p:blipFill>
        <p:spPr>
          <a:xfrm>
            <a:off x="4876920" y="685800"/>
            <a:ext cx="3763800" cy="3352680"/>
          </a:xfrm>
          <a:prstGeom prst="rect">
            <a:avLst/>
          </a:prstGeom>
          <a:ln w="0">
            <a:noFill/>
          </a:ln>
        </p:spPr>
      </p:pic>
      <p:sp>
        <p:nvSpPr>
          <p:cNvPr id="60" name="TextBox 6"/>
          <p:cNvSpPr/>
          <p:nvPr/>
        </p:nvSpPr>
        <p:spPr>
          <a:xfrm>
            <a:off x="5181480" y="365760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ip 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http://www.redcook.net/wp-content/uploads/2008/05/mustard-green.jpg"/>
          <p:cNvPicPr/>
          <p:nvPr/>
        </p:nvPicPr>
        <p:blipFill>
          <a:blip r:embed="rId3"/>
          <a:stretch/>
        </p:blipFill>
        <p:spPr>
          <a:xfrm>
            <a:off x="762120" y="3809880"/>
            <a:ext cx="4190760" cy="2791080"/>
          </a:xfrm>
          <a:prstGeom prst="rect">
            <a:avLst/>
          </a:prstGeom>
          <a:ln w="0">
            <a:noFill/>
          </a:ln>
        </p:spPr>
      </p:pic>
      <p:sp>
        <p:nvSpPr>
          <p:cNvPr id="62" name="TextBox 8"/>
          <p:cNvSpPr/>
          <p:nvPr/>
        </p:nvSpPr>
        <p:spPr>
          <a:xfrm>
            <a:off x="5105520" y="563868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ard 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80520" y="533520"/>
            <a:ext cx="84582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ogether with phosphorus involved in building bones and tee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Blood clott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Helps in muscle contr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ransmission of nervous impul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8230-E531-418C-B47A-A7629557130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533520" y="3808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e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More common in women than m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Osteoporos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- thinning of bone tissue and loss of bone density over time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ombined with low vitamin D can caus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Ricke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(children) &amp;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Osteomalac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(adults) which is the bone deformities &amp; softe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Ex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ontribute to Calcium deposits in kidney (kidney failure) &amp; other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http://www.talkorigins.org/faqs/homs/rickets.jpg"/>
          <p:cNvPicPr/>
          <p:nvPr/>
        </p:nvPicPr>
        <p:blipFill>
          <a:blip r:embed="rId1"/>
          <a:stretch/>
        </p:blipFill>
        <p:spPr>
          <a:xfrm>
            <a:off x="533520" y="304920"/>
            <a:ext cx="3740040" cy="6172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http://www.proteanservices.com/wp-content/uploads/2009/02/young-child-with-severe-rickets.jpg"/>
          <p:cNvPicPr/>
          <p:nvPr/>
        </p:nvPicPr>
        <p:blipFill>
          <a:blip r:embed="rId2"/>
          <a:stretch/>
        </p:blipFill>
        <p:spPr>
          <a:xfrm>
            <a:off x="4419720" y="304920"/>
            <a:ext cx="42926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2T17:33:21Z</dcterms:created>
  <dc:creator>User</dc:creator>
  <dc:description/>
  <dc:language>en-US</dc:language>
  <cp:lastModifiedBy>User</cp:lastModifiedBy>
  <dcterms:modified xsi:type="dcterms:W3CDTF">2014-04-20T18:28:29Z</dcterms:modified>
  <cp:revision>163</cp:revision>
  <dc:subject/>
  <dc:title>TOPIC 6 MINERALS</dc:title>
</cp:coreProperties>
</file>