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4F48F-0AA5-4781-A8CD-FF6FA1F59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ottlin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is the appearance of uneven 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848F4-D9CB-46D1-800F-7ED314D5A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13F6-330F-47B4-BD3F-7EF96613B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6644-2316-46F0-9217-1FD5E4DC9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E010-FD46-4779-93D1-6CEA1FC20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B75B-12A1-4860-8B06-6C92CB691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0044-07CB-4878-A39E-5C2DF396E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D13B-FBCD-44D2-8157-8BF08C180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3A2E-680B-4730-9060-1F9415FCD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3E20-6129-4548-B192-0FA25B4EC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2F49-C77B-4293-A01D-3B49BE13D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04D3-49B4-4521-84E5-FCA55357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97AC-7EF3-4E01-B950-EC96CE416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72C4-C08E-4301-9341-AEC06FFA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383CD-040B-4D6B-9E5F-3FE3939388E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IC 6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NER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400" y="350532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DS2033 NUTRITION FOR FOODSERVICE INDU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038A6-B8EF-4724-9757-4DD21F65286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380520" y="5331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Absor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Absorption is best during growth &amp; pregnanc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Higher absorption rate for younger people than for older peop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ostmenopausal women (high risk for osteoporosis) – often absorb the least Calciu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Certain substance interfere with Calcium absorption eg. tannins in te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63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HOSPHOR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04920" y="8380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Sou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-272880" algn="just">
              <a:spcBef>
                <a:spcPts val="575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Food rich in protein &amp; calcium also rich in phosphorus such as meat and mil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-272880" algn="just">
              <a:spcBef>
                <a:spcPts val="575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Widely distributed in foods eg. Poultry, eggs, legumes, whole-grain foo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272880" indent="-272880" algn="just">
              <a:spcBef>
                <a:spcPts val="575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Fruits &amp; vegetables are generally low in phosphoru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5D832-0D6C-4B60-A0F3-353B174D60A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609120" y="456840"/>
            <a:ext cx="8001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Together with calcium involved in building bones and tee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art of DNA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374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Acts as coenzyme to release of energy from fat, protein &amp; carbohydra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Defici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575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Very r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ODI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04920" y="609480"/>
            <a:ext cx="861048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al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High in shellfish &amp; MS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Low in fresh vegetables, fruits &amp; me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ct as electrolytes involved in water &amp; acid bal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Water Balance (Moving water inside and outside the cell &amp; in blood vessel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cid Balance (Neutralize various acids and bases in the body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Muscles contraction &amp; transmission of nerves impuls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33298-62C3-4A4C-87FD-FF6998904DA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533520" y="685800"/>
            <a:ext cx="8153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Defici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46120" indent="-273240" algn="just">
              <a:spcBef>
                <a:spcPts val="575"/>
              </a:spcBef>
              <a:buClr>
                <a:srgbClr val="4f81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___________________________________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Exces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High blood pressure (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hypertensio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) which increase risk factor for heart disease, stroke &amp; kidney disea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CE MINER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R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0948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Sou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Meat, poultry &amp; fis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Whole-grain, fortified cereals, legumes, green leafy vege &amp; eg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Fun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Component in hemoglobin that carry oxygen around blood circ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art of myoglobin (a muscle protein) that store and carry oxygen for musc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99CF5-0080-47C3-81AF-8A32C3A7C06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04920" y="228600"/>
            <a:ext cx="86104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Defici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________________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– size &amp; number of red blood cells reduced (carry less hemoglobi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ommon among woman of childbearing age, pregnant woman, infants &amp; children, &amp; teenage gir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Ex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Liver dam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Hemochromatosi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(iron overload) – caused by genetic disorder; more prevalence in m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ymptoms: fatigue, joint pain, skin that turns gray/bronze &amp; liver diseas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456840"/>
            <a:ext cx="8153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Absor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Absorption is greatest when iron in the body reduc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Also when there is high needs for red blood cells such as during menstrual cycle or pregnanc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Absorption can be facilitated by Vitam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Animal source better absorbed than plant sou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Decrease absorption : coffee, tea, phytic acid in whole grain, oxalic acid (spinach) and calcium suppl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ZIN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80880" y="533160"/>
            <a:ext cx="838224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Sou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rotein-containing food eg. meat, poultry and shellfish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Whole grain, fortified cereals, some legumes and dairy produc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Fun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Act as cofactor – necessary for enzyme activity (involves in protein, carbohydrate &amp; fat metabolism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Assist in wound healing, bone formation, cell reproduction &amp; DNA synthes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475EF-E443-4D0D-8E32-5908A4CA917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28240" y="1676160"/>
            <a:ext cx="8534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Minerals are absorb in the body to varying degrees – better absorption from animal source than plant source because plant food contains fiber and other substances than bind miner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Excessive consumption lead to toxicit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80880" y="228600"/>
            <a:ext cx="838224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Defici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dults – poor appetite, diarrhea, skin rash &amp; hair los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hildren - growth retardation, delayed sexual maturation, decreased sense of taste, poor appetite, delayed wound healing and immune deficienc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Ex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an lead to copper deficiency – less iron is absorb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Zn supplement should be avoided unless prescribe – fat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bsor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Phytat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in whole-grain bread, cereals &amp; legumes can reduce zinc absorp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27AFB-24B5-495E-9F5E-4F58A9CC4C9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ODINE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04920" y="456840"/>
            <a:ext cx="853416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altwater fish, grain grown in iodine rich soi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lso can be found in milk, baked goods and food color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Production and normal functioning of thyroid glan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yroid in responsible for producing hormones that maintain normal level of metabolism for normal growth, bones development and protein synthes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Defici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Goit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– thyroid gland becomes lar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renitis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(mental retardation) in fetu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09CE8-6CA4-4D51-BE4D-34FB24F55A4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http://t1.gstatic.com/images?q=tbn:ANd9GcRc6HldNmO2AZ7W7RW1LARPBVNaZ_AD4qQjovriOiXT5FZqKFMI"/>
          <p:cNvPicPr/>
          <p:nvPr/>
        </p:nvPicPr>
        <p:blipFill>
          <a:blip r:embed="rId1"/>
          <a:stretch/>
        </p:blipFill>
        <p:spPr>
          <a:xfrm>
            <a:off x="7162920" y="4495680"/>
            <a:ext cx="1638360" cy="21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5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UOR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80520" y="685440"/>
            <a:ext cx="85345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Drinking water, tea &amp; fi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dded in the tooth past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trengthens tee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Deficien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Lead to tooth dec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Ex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Lead to mil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fluorosi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, a condition that causes white opaque areas on teet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Severe cases causes a distinct brownish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mottl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(the appearance of uneven spots) or discolor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B2BF5-1CBE-4368-AF18-CC5405BB0E6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5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5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0" dur="500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EXERCIS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List the disease that might occur as the result of the deficiency of following mineral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Calc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Ir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Iod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There are 2 categories of mineral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____________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89120" indent="-5144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eeded by the body more than 100 mg/d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89120" indent="-5144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alcium, Chloride, Magnesium, Phosphorus, Potassium, Sodium, Sulfu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89120" indent="-5144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______________________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Needed by the body less than 100 mg/d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89120" indent="-5144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hromium, Copper, Fluoride, Iodine, Iron, Manganese, Molybdenum, Selenium, Zin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JOR MINER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LCI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440" y="106632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Sour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Milk &amp; milk product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Canned salmon &amp; sardine (eaten with bones), oyst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Fortified food eg. Orange juice &amp; soy mil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Green vegetables eg. broccoli, kale, collar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Other vegetables eg. spinach &amp; parsley are calcium-rich but contain a binder called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oxalic acid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which makes it hard to absorb by the body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bexar-tx.tamu.edu/HomeHort/F1Column/2007%20Articles/Plant%20of%20the%20Week/Vates%20collards.jpg"/>
          <p:cNvPicPr/>
          <p:nvPr/>
        </p:nvPicPr>
        <p:blipFill>
          <a:blip r:embed="rId1"/>
          <a:stretch/>
        </p:blipFill>
        <p:spPr>
          <a:xfrm>
            <a:off x="228600" y="228600"/>
            <a:ext cx="2590920" cy="345456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2971800" y="3049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http://t2.gstatic.com/images?q=tbn:ANd9GcQf-MHQfoxItkPscdOc_Bnzj0CM8en8aWnQigUAvlnHNBFXjSsaqw"/>
          <p:cNvPicPr/>
          <p:nvPr/>
        </p:nvPicPr>
        <p:blipFill>
          <a:blip r:embed="rId2"/>
          <a:stretch/>
        </p:blipFill>
        <p:spPr>
          <a:xfrm>
            <a:off x="4876920" y="685800"/>
            <a:ext cx="3763800" cy="3352680"/>
          </a:xfrm>
          <a:prstGeom prst="rect">
            <a:avLst/>
          </a:prstGeom>
          <a:ln w="0">
            <a:noFill/>
          </a:ln>
        </p:spPr>
      </p:pic>
      <p:sp>
        <p:nvSpPr>
          <p:cNvPr id="60" name="TextBox 6"/>
          <p:cNvSpPr/>
          <p:nvPr/>
        </p:nvSpPr>
        <p:spPr>
          <a:xfrm>
            <a:off x="5181480" y="3657600"/>
            <a:ext cx="335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ip g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http://www.redcook.net/wp-content/uploads/2008/05/mustard-green.jpg"/>
          <p:cNvPicPr/>
          <p:nvPr/>
        </p:nvPicPr>
        <p:blipFill>
          <a:blip r:embed="rId3"/>
          <a:stretch/>
        </p:blipFill>
        <p:spPr>
          <a:xfrm>
            <a:off x="762120" y="3809880"/>
            <a:ext cx="4190760" cy="2791080"/>
          </a:xfrm>
          <a:prstGeom prst="rect">
            <a:avLst/>
          </a:prstGeom>
          <a:ln w="0">
            <a:noFill/>
          </a:ln>
        </p:spPr>
      </p:pic>
      <p:sp>
        <p:nvSpPr>
          <p:cNvPr id="62" name="TextBox 8"/>
          <p:cNvSpPr/>
          <p:nvPr/>
        </p:nvSpPr>
        <p:spPr>
          <a:xfrm>
            <a:off x="5105520" y="563868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ard g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80520" y="533520"/>
            <a:ext cx="84582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Together with phosphorus involved in building bones and tee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Blood clott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Helps in muscle contr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Transmission of nervous impuls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F1229-253F-43BE-AFBE-7DE2B997A89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533520" y="3808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Defici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More common in women than m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Osteoporos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- thinning of bone tissue and loss of bone density over time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Combined with low vitamin D can cause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Ricket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(children) &amp;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Osteomalac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(adults) which is the bone deformities &amp; soften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Ex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575"/>
              </a:spcBef>
              <a:buClr>
                <a:srgbClr val="4f81b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Contribute to Calcium deposits in kidney (kidney failure) &amp; other probl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http://www.talkorigins.org/faqs/homs/rickets.jpg"/>
          <p:cNvPicPr/>
          <p:nvPr/>
        </p:nvPicPr>
        <p:blipFill>
          <a:blip r:embed="rId1"/>
          <a:stretch/>
        </p:blipFill>
        <p:spPr>
          <a:xfrm>
            <a:off x="533520" y="304920"/>
            <a:ext cx="3740040" cy="6172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http://www.proteanservices.com/wp-content/uploads/2009/02/young-child-with-severe-rickets.jpg"/>
          <p:cNvPicPr/>
          <p:nvPr/>
        </p:nvPicPr>
        <p:blipFill>
          <a:blip r:embed="rId2"/>
          <a:stretch/>
        </p:blipFill>
        <p:spPr>
          <a:xfrm>
            <a:off x="4419720" y="304920"/>
            <a:ext cx="429264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2T17:33:21Z</dcterms:created>
  <dc:creator>User</dc:creator>
  <dc:description/>
  <dc:language>en-US</dc:language>
  <cp:lastModifiedBy>User</cp:lastModifiedBy>
  <dcterms:modified xsi:type="dcterms:W3CDTF">2014-04-20T18:28:29Z</dcterms:modified>
  <cp:revision>163</cp:revision>
  <dc:subject/>
  <dc:title>TOPIC 6 MINERALS</dc:title>
</cp:coreProperties>
</file>