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214-D0DF-4FE1-ABFF-484695A9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5ED-AF2B-4385-811F-C4ECAAF9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6E4-F535-4B3D-B802-5404E783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A97-E1F6-451B-860C-08D417B8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DCB-4A1F-43AC-8F6C-8CD42B8A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053-B6FA-4BAD-8B17-83FDA1B6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00C-C7D9-4919-8197-7A868F4E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76D-7B25-44B8-B53A-36D85185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E9F-A0A8-4D2D-A34D-3DC3B636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9B1-B15A-47EC-AADE-E561D4D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06A-B218-4A17-847B-0D9B3B0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B33-EA5B-460A-A694-8CAB1CE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4BC4-C8E1-4F24-885D-C674C2FC81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Arial"/>
              </a:rPr>
              <a:t>الفصل الثالث : أهم المواد الأولية المستخدمة في المستحضرات الجلدية و التجميلية</a:t>
            </a:r>
            <a:r>
              <a:rPr b="1" lang="ar-SY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572000" y="1847880"/>
            <a:ext cx="367200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1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الفحوم الهيدروجينية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443640" y="2492280"/>
            <a:ext cx="2232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1.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فازل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66560" y="4078440"/>
            <a:ext cx="8209080" cy="22302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فازلين الأبيض و الأصفر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فازلينات هي مواد لا قطبية خاملة كيميائيا لا تزنخ , موافقة للعديد من المواد الدوائية كونها لا تتأثر بالحموض و القلويات و الأكاسيد و المرجعات و ثابتة و غير محسسة للجلد ضعيفة الإختراق و قدرتها على امتصاص الماء ضعيفة جدا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6560" y="3112920"/>
            <a:ext cx="820908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مزجة لفحوم هيدروجينية ذات درجة غليان مرتفعة تستحصل بمعالجة نواتج تصفية البترول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5940360" y="189000"/>
            <a:ext cx="27352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4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مشتقات اللانولين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64000" y="1414440"/>
            <a:ext cx="3168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مشتقات التن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580000" y="1990800"/>
            <a:ext cx="2879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1-1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السائ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11280" y="2565360"/>
            <a:ext cx="8245440" cy="934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سترات سائلة لللانولين , أقل التصاقا و دبقا مزوج بنسبة أعلى بالماء خال من المواد المحسسةيحل محل اللانولين في الكريمات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viscolan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580000" y="3575160"/>
            <a:ext cx="2879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1-2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الشم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611280" y="4149720"/>
            <a:ext cx="824544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سترات صلبة  لللانولين , عامل قوام في حمرة الشفاه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waxolan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140360" y="4727520"/>
            <a:ext cx="43923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مشتقات التحولات الكيمي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796000" y="5303880"/>
            <a:ext cx="2663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-1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أغوال اللانول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11280" y="5878440"/>
            <a:ext cx="824544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جزء غير القابل للتصبن , امتصاص كبير الماء , عامل استحلابي م/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611280" y="765000"/>
            <a:ext cx="824544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قوام-ثبات-استعمال- تعديل الانحلالية- مطرية-المحسسة-قلب النم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789520" y="404640"/>
            <a:ext cx="2879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-2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المهدر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71640" y="1025640"/>
            <a:ext cx="76975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قاوم للأكسدة و قدرته عالية على امتصاص الماء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Hydrolan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197160" y="1774800"/>
            <a:ext cx="5472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-3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المؤستر بالغول الإيزوبروبيلي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71640" y="2394000"/>
            <a:ext cx="76975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طري , قدرة اختراقية عالية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Isopropylan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197160" y="3171960"/>
            <a:ext cx="547200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-4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و أغوال اللانولين المؤستلة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042920" y="3789360"/>
            <a:ext cx="7626240" cy="1008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ستلة (لا يمتص الماء)  حمرة الشفاه و طلاء الأظافر و كواق في المراهم الحاجزية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Acetulan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197160" y="5014800"/>
            <a:ext cx="5472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-5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لانولين المنحل في الماء أو الغول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900000" y="5661000"/>
            <a:ext cx="7769160" cy="9367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إدخال أوكسيد الإيتيلين على اللانولين أو أغواله(أكثر انحلالا) مطري في م ج و هو عامل استحلابي ز/م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Solulan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404640"/>
            <a:ext cx="8640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مشتقات اصطناعية أو نصف اصطناعية لأجسام دسمة طبيع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780000" y="1052640"/>
            <a:ext cx="488916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4-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مشتقات تحولات الزيوت النباتية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219640" y="1703520"/>
            <a:ext cx="345600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زيت الأراشيد المهدرج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995640" y="2422440"/>
            <a:ext cx="4680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غليسيريدات بولي أوكسي إيتيلين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11280" y="3068640"/>
            <a:ext cx="8245440" cy="1368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كحولة للزيوت النباتية بوجود البولي أوكسي إيتيلين تعطي استرات للغليسيرول ( أحادية و ثنائية و ثلاثية)  و استرات للبولي (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و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)</a:t>
            </a:r>
            <a:br>
              <a:rPr sz="2800"/>
            </a:b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abrafils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لشركة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Gattefosse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11280" y="4653000"/>
            <a:ext cx="8245440" cy="1368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واد دسمة محبة للماء ذات قدرة استحلابية ضعيفة , قدرة اختراقية عالية و هي محتملة (المخاطيات و الأغشية) , مواضع الزيوت النباتية و الحيوانية و المعدنية و في المستحضرات المؤثرة بعم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780000" y="404640"/>
            <a:ext cx="48891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4-2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حموض الدسمة و مشتقاتها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796000" y="1052640"/>
            <a:ext cx="2879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حموض الدسم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643280" y="1703520"/>
            <a:ext cx="38894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حمض الشحم (الشم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11280" y="2276640"/>
            <a:ext cx="8245440" cy="934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ينصهر في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56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7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مئوية , رافع قوام و  عامل استحلابي ز/م حينما يكون بحالة صابون (تهلم المواد الدسمة السائل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780000" y="3357720"/>
            <a:ext cx="47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الحموض الدسمة غير المشب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611280" y="393372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كحمض اللينوليئيك و اللينولينيك و الأراشيدونيك تستخدم لمعالجة الجلد الجاف الفقير بالدس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932360" y="5013360"/>
            <a:ext cx="37432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سترات الحموض الدسم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643280" y="5649840"/>
            <a:ext cx="38894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ميرستات الإيزوبروب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574560" y="6237360"/>
            <a:ext cx="8245440" cy="468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لايزنخ و لا يتميه  في مواضع الزيوت النباتية في الأسس الاستحلا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96800" y="260280"/>
            <a:ext cx="8245440" cy="1440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يستخدم كمزيج مع اللانولين بديلا عن زيت الأراشيد كما أنها تتمتع بقدرة على حل المواد الدوائية أعلى من قدرة الزيوت النباتية (ممتص  بشكل جيد و متحمل من قبل الجلد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11200" y="1916280"/>
            <a:ext cx="82090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سترات لحموض دسمة و أغوال متوسطة الوزن الجزيئ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96800" y="249228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لورات الهيكزيل و زيتات الديسيل  في مواضع استخدام ميرستات الايزوبروبيل (تأثير عميق و حل للمواد الدوائية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25600" y="3645000"/>
            <a:ext cx="8208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سترات لحموض دسمة و أغوال عالية الوزن الجزيئ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11200" y="422100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همها الأمفوسيرين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و الدهيموليس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دهيموليس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عوامل استحلابية م/ز بالمشاركة مع استرات الغليسيرول و الهيدروكارب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364000" y="5373720"/>
            <a:ext cx="3384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سترات الغليسير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39640" y="5950080"/>
            <a:ext cx="8245440" cy="5745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كثرها استخداما في م ج و م ت هو أحادي ستيئرات الغليسير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57120" y="428760"/>
          <a:ext cx="8358120" cy="629280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ركيب حسب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F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ركيب تبعاً للمصن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م الما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سيتوستئريلي + لانولين + زيت الأراشيد المهدر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ة أغوال دسمة عالية الوزن الجزيئي مع استرات شمع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ocerine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كونات الأمفوسيرين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زيت نباتي + زيت معدني + فازل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زيج من الأمفوسيرين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دسم مع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ocerine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وربيتان + الشمع الأبيض +ستئرات الألمنيوم +مواد أخرى مض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زيج لاسترات خاصة استات حمض دسم البنتاإيريتريت +استرات لأغوال دلسمة و حمض الليمو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ymulu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كونات دهيموليس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فازلن +زيت معدني + سيريزين+ زيتات الديسي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زيج دهيموليس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استرات لأغوال و حموض دسمة + دسم مع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ymulus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نو أوليات الغليسرول + ستئرات الألمنيوم + شمع دقيق التبلور + مواد أخرى مض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زيج لاسترات حموض دسمة بوزن جزيئي عالي + أملاح لحموض دسمة + مواد لربط الزي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hymulus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00720" y="404640"/>
            <a:ext cx="41684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4-1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أحادي ستيئرات الغليسيرول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11200" y="98100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رافع قوام في تحضير الكريمات , ممتص جدا من قبل الجلد قدرة استحلابية م/ز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utina MD, Geleol G , Tegine M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050920" y="2279520"/>
            <a:ext cx="66182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4-2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أحادي ستيئرات الغليسيرول القابلة  للاستحلاب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24000" y="2927520"/>
            <a:ext cx="8640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- أحادي ستيئرات الغليسيرول القابلة  للاستحلاب الحاوية صابون ستئرات البوتاسيو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11200" y="357336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حضير كريمات ز/م , درجة حموضة =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7.8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تتنافرمع الحموض و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utina KD, Gelabex 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شارج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24000" y="4799160"/>
            <a:ext cx="8640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- أحادي ستيئرات الغليسيرول القابلة  للاستحلاب الحاوية لوريل سلفات الصوديو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39640" y="5446800"/>
            <a:ext cx="8245440" cy="934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حضير كريمات ز/م , درجة حموضة أقل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7.8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تتنافرمع الحموض و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Cutina LE 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شارج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324000" y="260280"/>
            <a:ext cx="8640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-  أحادي ستيئرات الغليسيرول القابلة  للاستحلاب الحاوية استر 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POEG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ar-SY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9640" y="907920"/>
            <a:ext cx="8245440" cy="935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333399"/>
                </a:solidFill>
                <a:latin typeface="Arial"/>
              </a:rPr>
              <a:t>تتوافق مع غالبية المواد الدوائية الشارسبية و الشارجبية و في الكريمات الغنية بالمواد الحالة للدسم كالزيوت العطرية و الساليسيلات العضوية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GELOT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11280" y="2060640"/>
            <a:ext cx="80578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4-3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ثلاثية استرات الغليسيرول (مشبعة-زنخ)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iglyol 812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500720" y="2708280"/>
            <a:ext cx="424800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سترات عديدات الغو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835280" y="3287880"/>
            <a:ext cx="684036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5 -1– 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استرات عديدات الغول غير ذاتية الاستحلاب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39640" y="3933720"/>
            <a:ext cx="8245440" cy="432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333399"/>
                </a:solidFill>
                <a:latin typeface="Arial"/>
              </a:rPr>
              <a:t>بالميتو ستيئرات الإيتيلين غليكول و الدي إيتيلين غليكول و البروبيلين غليك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835280" y="4508640"/>
            <a:ext cx="684036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5 -2– 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استرات عديدات الغول ذاتية الاستحلاب</a:t>
            </a:r>
            <a:r>
              <a:rPr b="1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5084640"/>
            <a:ext cx="8245440" cy="432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333399"/>
                </a:solidFill>
                <a:latin typeface="Arial"/>
              </a:rPr>
              <a:t>كستيئرات الإيتيلين غليكول مضافا لها لوريل سلفات الصوديوم (أحادية ستئرات الغليسيرول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5867280" y="5735520"/>
            <a:ext cx="28814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سترات </a:t>
            </a:r>
            <a:r>
              <a:rPr b="1" lang="fr-FR" sz="2400" spc="-1" strike="noStrike">
                <a:solidFill>
                  <a:srgbClr val="006600"/>
                </a:solidFill>
                <a:latin typeface="Arial"/>
              </a:rPr>
              <a:t>PO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3786120" y="404640"/>
            <a:ext cx="48895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4-3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أغوال الدسمة و مشتقاتها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365800" y="1052640"/>
            <a:ext cx="33829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أغوال الدسمة الصلب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11200" y="1628640"/>
            <a:ext cx="8245440" cy="1800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روافع قوام في م ج و م ت تزيد من قدرة الهيدروكربونات على امتصاص الماء ,عوامل استحلابية ضعيفة(باستثناء الستئريلي  م/ز) رفع نقطة الانصهار في المستحضرات الحاوية على مواد تخفضها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شموع ذاتية الاستحلاب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anette n Emulgad A et F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5365800" y="3503520"/>
            <a:ext cx="3382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أغوال الدسمة السائل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00040" y="4286160"/>
            <a:ext cx="8245440" cy="1800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في مواضع استعمال الزيوت النباتية و المعدنية – قدرة اختراقية عالية و حل المواد الدوائية – أكثرها استعمالاً غول الأوليئيك و غول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أوكتيل دوديكانول (أوتانول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523880" y="571680"/>
          <a:ext cx="6548400" cy="5686200"/>
        </p:xfrm>
        <a:graphic>
          <a:graphicData uri="http://schemas.openxmlformats.org/drawingml/2006/table">
            <a:tbl>
              <a:tblPr/>
              <a:tblGrid>
                <a:gridCol w="4691160"/>
                <a:gridCol w="1857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كيبه وفق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FA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م الشمع الاستحلا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+ غول سيتيل ستئريل سلفات الصوديوم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ette-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+ غول اللوريل  سلفات الصوديوم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ette-S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ette-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إيتر لغول اللوريل مع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gade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+ غول سيتيل ستئريل سلفات الصوديوم + زيت الخروع –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gade-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+  زيت الخروع –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gade-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 سيتوستئريلي + إيتر لغول  سيتوستئريلي  مع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gade-1000 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ول سيتوستئريلي + سيتوماكروغول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إيتر لغول السيتيلي مع 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</a:t>
                      </a: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شمع ستحلابي بالسيتوماكروغ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443640" y="404640"/>
            <a:ext cx="2232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.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باراف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66560" y="1125360"/>
            <a:ext cx="820908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مزجة معقدة لفحوم هيدروكربونية مشبعة  مستحصلة من تجزئة    البترول  الخام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300720" y="2062080"/>
            <a:ext cx="2374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بارافين السائل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300720" y="2639880"/>
            <a:ext cx="2374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بارافين الصلب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4788000" y="3429000"/>
            <a:ext cx="3887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3.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أوزوكريت و السيريز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68360" y="4176720"/>
            <a:ext cx="820908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أوزوكريت عبارة عن شمع متحجر يوجد بالقرب من حقول البترول و ينجم عن التبخر الطبيعي للبترول الخام (حمرة الشفاه و السيتك)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68360" y="5229360"/>
            <a:ext cx="820908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سيريزين مادة ذات قوام شمعي بيضاء أو صفراء ( حسب النقاوة ) و يعد بمثابة الأوزوكريت المنقى يستخدم في حمرة الشفاه و الكريمات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5292720" y="2141640"/>
            <a:ext cx="35924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خصائصها و استعمالا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627280" y="2714760"/>
            <a:ext cx="6157800" cy="2214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مقاومة جيدة تجاه الحرارة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خاملة كيميائيا بشدة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مقاومتها كبيرة للتزنخ و التخربات الجرثومية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محتملة جيدا من قبل الجلد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ذات قدرة طاردة للماء عالية جدا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539640" y="5175360"/>
            <a:ext cx="8245440" cy="1611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ستخدم في تحضير الكريمات الحاجزية (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%) و المراهم الحاوية المواد الفعالة قليلة الثبات في السواغات العادية (بعض الصادات الحيوية (البنسلين أكثر ثباتا في سواغ مرهمي سيليكوني منه في الفازلين الأبيض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516720" y="69840"/>
            <a:ext cx="2448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لسيليكو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539640" y="642960"/>
            <a:ext cx="8245440" cy="14428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هي عبارة عن بولي سيلوكسان ميتيليك تستخدم بكثرة في م ج  توجد بحالة زيوت بلزوجة مختلفة  و تقسم إلى قليلة اللزوجة و متوسطتها (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00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) و عالية اللزوجة (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500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0000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7380360" y="333360"/>
            <a:ext cx="15048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تنافرا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39640" y="981000"/>
            <a:ext cx="8245440" cy="1440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بدي أمزجة غير ثابتة مع البولي إيتيلين غليكول و الصابون اللين و الغليسرين و هي غير ممتزجة مع الزيوت النباتية و زيت البارافين و الكوليستر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556000" y="2637000"/>
            <a:ext cx="6408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المواد المنحلة في الماء أو القابلة للتبعثر ف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627280" y="3284640"/>
            <a:ext cx="6157800" cy="1726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و تستخدم لتأثيراتها التالية :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منع تبخر الماء في المستحلبات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سمح بالحصول على مستحضرات تكسوتروبية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أساس قريب من المواد الدسمة غسول بالم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788000" y="5087880"/>
            <a:ext cx="41050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6-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مواد المرطبة أو المطرية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39640" y="5734080"/>
            <a:ext cx="8245440" cy="431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منع تجفاف الكريمات ز/م و ذلك بفضل قدرتها على جذب الماء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39640" y="404640"/>
            <a:ext cx="8245440" cy="432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400" spc="-1" strike="noStrike">
                <a:solidFill>
                  <a:srgbClr val="333399"/>
                </a:solidFill>
                <a:latin typeface="Arial"/>
              </a:rPr>
              <a:t>- تمنع تشكل طبقة دسمة واقية لدى تطبيق الكريمات الدسمة (منع التهاب الجلد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39640" y="909720"/>
            <a:ext cx="8245440" cy="718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 مطرية و تزيد الاختراق عبر الجلد بسبب الإماهة التي تحدثها في مستوى الطبقات السطحية من الجل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39640" y="1701720"/>
            <a:ext cx="8245440" cy="1440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همها الغليسرين و البروبيلين غليكول و السوربيتول , الشديدة الامتصاص للماء  قد تجذب ماء طبقات الجلد السطحية (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تجفاف الجلد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% (مرطبة) ,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% (مطري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771640" y="3214800"/>
            <a:ext cx="61214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6-2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مواد المزيدة للزوجة أو العوامل المهلمة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195640" y="3790800"/>
            <a:ext cx="648000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6-2-1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عوامل المزيدة للزوجة المستحضرات المائي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924360" y="4365720"/>
            <a:ext cx="47512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1-1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المواد ذات المنشأ الطبيعي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6372360" y="4943520"/>
            <a:ext cx="23032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آغار- آغار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395280" y="5518080"/>
            <a:ext cx="8389800" cy="1079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مواد غروية مستحصلة من أشنيات, لاينحل في الماء البارد ينحل في الساخن,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,5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 يستخدم في م ج و في العينية و الهلاميات المضادة للشم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6804000" y="18900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ألجينات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95280" y="836640"/>
            <a:ext cx="8389800" cy="1079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مستحصلة من المعالجة القلوية للأشنيات بنية اللون, المستخدمة ألجينات : الصوديوم , البوتاسيوم و التري إيتانول أمين , ينتبج بالماء و لا ينحل به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95280" y="1989000"/>
            <a:ext cx="8389800" cy="2016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اللزوجة تختلف باختلاف درجة التماثر , تتأثر بدرجة الحموضة(ثابتة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) تتنافر مع الحموض القوية (ألجينات البروبيلين غليكول) أما الضعيفة فتشكل حمض الألجيني الغروي (زيادة سماكة الهلاميات ) و القلويات تزيد سيولتها تترسب بوجود المعادن الثقيلة وتتصلب بوجود الأملاح القلوية الترابية  وتتفكك بوجود الماء الأوكسيجيني و الهيبوكلوريت( المواد المؤكسدة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95280" y="4078440"/>
            <a:ext cx="8389800" cy="5745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تستعمل في المعلقات و في م ج كمطرية أو كريمات حاجزية واقية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0,5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6804000" y="479916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بنتونيت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95280" y="5445000"/>
            <a:ext cx="8389800" cy="1224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ي سيليكات الألمنيوم الطبيعية المائية مع آثار من أوكسيد الحديد و أكاسيد قلوية وقلوية ترابية ينتبج بالماء فيعطي محاليل غرويدية أو هلاميات حسب التركيزوتزداد قدرته على التهلم بوجودالمواد القلوية وتنقص بوجودالحمو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95280" y="333360"/>
            <a:ext cx="8389800" cy="5745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تستعمل في المعلقات و في الكريمات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 (</a:t>
            </a:r>
            <a:r>
              <a:rPr b="1" lang="ar-SY" sz="2600" spc="-1" strike="noStrike">
                <a:solidFill>
                  <a:srgbClr val="cc3300"/>
                </a:solidFill>
                <a:latin typeface="Arial"/>
              </a:rPr>
              <a:t>لتحسين مظهرها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04000" y="105264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4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كاراجين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95280" y="1701720"/>
            <a:ext cx="8389800" cy="574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مكونات ضمن خلوية لبعض أنواع الأشنيات من عائلة </a:t>
            </a: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Rhodophyc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95280" y="2349360"/>
            <a:ext cx="8389800" cy="2016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لامياتها تتحمل إضافة الغول و الأسيتون و المحلات القطبية الأخرى حتى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 حجما و تتحمل إضافة المعادن القلوية الترابية و المعادن الثقيلة المضافة بكميات قليلة , السوربيتول و الغليسرين و أملاح البوتاسيوم تزيد من متانتها, كما تشكل مع البروتينات و بخاصة كازئين الحليب معقدات تزيد من متانتها (غذائيا لتحضير الحليب المتهلم ذي النكه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6804000" y="4511520"/>
            <a:ext cx="1871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5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غوار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95280" y="5084640"/>
            <a:ext cx="8389800" cy="1079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غرويدات محبة للماء يستحصل عليها من سويداء حبات إحدى البقوليات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Cyonopsis Tetragonolob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و هي عبارة عن كثيرات السكاك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6804000" y="333360"/>
            <a:ext cx="1871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6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56000" y="907920"/>
            <a:ext cx="6229080" cy="50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نشا القمح و الصمغ العربي و صمغ الكثيراء و الجيلاتين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411280" y="1628640"/>
            <a:ext cx="62643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1-2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المواد الاصطناعية و نصف الاصطناعية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804000" y="220680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كاربوب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68360" y="2779560"/>
            <a:ext cx="8316720" cy="8654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متماثرات لحمض الأكريلي و الأكثر استخداما هو الكاربوبول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94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فهلامياته أكثر شفافية , تعديله بقلوي يزيد من لزوجيتها التي تنقص بتأثير الضوء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508720" y="3719520"/>
            <a:ext cx="31669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سيللوز و مشتقا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3780000" y="4295880"/>
            <a:ext cx="4895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سيللوز مجهري التبلور أو الآفيسيل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651640" y="4871880"/>
            <a:ext cx="30970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سللوز مجهري التبلور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5445000"/>
            <a:ext cx="8316720" cy="8654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البعد الوسطي للأجزاء بين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5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ميكرومترا (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4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مك) يستخدم لخصائصه الانسيابية الجيدة ولقدرته الرابطة في المضغوطات المحضرة بالضغط المباش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4427640" y="260280"/>
            <a:ext cx="43210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سللوز مجهري التبلور الغرويدي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8360" y="836640"/>
            <a:ext cx="831672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اكثر نعومة وأبعاد ثلث أجزائه أقل من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ميكرومترا يستخدم في المعلقات ( الهلاميات التكسوتروبي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68360" y="1773360"/>
            <a:ext cx="831672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لزيادة البعثرة بالماء نضيف كاربوكسي ميتيل سللوز الصودي بنسبة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 مما يجعله متنافرا مع المواد الشرجبية و يتميز عن البنتونيت و الفيغوم بكونه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195640" y="2708280"/>
            <a:ext cx="6589440" cy="9367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درجة حموضة محاليله المبعثرة قريبة من الاعتدال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مدة تميه هلامياته أقل بكث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780000" y="3716280"/>
            <a:ext cx="4895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كاربوكسي ميتيل سيللوز الصودي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68360" y="4292640"/>
            <a:ext cx="831672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يستخدم في تحضير سواغات مرهمية غير دسمة معدة للاستعمال الجلدي و العيني يتنافرمع المعادن الثقيلة والموادالشرجبية والمحاليل الشديدة الحموض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012000" y="5232240"/>
            <a:ext cx="2663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ميتيل سيللو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468360" y="5803920"/>
            <a:ext cx="831672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تنافر:الفينول الريزورسين- كلور الصوديوم- نترات الفضة- معقدات مع باراهيدروكسي بنزوئيك و يخفف الفعالية المضادة للجراثيم للعديد من الموا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04000" y="47628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فيغ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24000" y="105264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و عبارة عن سيليكات الألمنيوم و المغنيزيوم ينتمي إلى زمرة المواد الغضارية يشكل محاليل غرويدية أو هلاميات (تكسوتروبية) و ذلك حسب التركيز(الغول)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804000" y="2060640"/>
            <a:ext cx="187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4- </a:t>
            </a:r>
            <a:r>
              <a:rPr b="1" lang="ar-SY" sz="2800" spc="-1" strike="noStrike">
                <a:solidFill>
                  <a:srgbClr val="003300"/>
                </a:solidFill>
                <a:latin typeface="Arial"/>
              </a:rPr>
              <a:t>اللابوني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و عبارة عن سيليكات المغنيزيوم الاصطناعية , هلاميات (تكسوتروبي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195640" y="3429000"/>
            <a:ext cx="648000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6-2-2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موادالمهلمة للمحلات و المواد الدسمة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324000" y="407664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العوامل المهلمة هي مواد تمنح السواغات السائلة المضافة إليها بنية نصف صلبة و تستخدم لزيادة قوام المستحضرات الغنية بالمحلات العضوية السائلة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5940360" y="5084640"/>
            <a:ext cx="27352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2-1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الإيروزيل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4000" y="566100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و حمض السيليس ذو النعومة العالية جدا يستخدم كعامل انسياب للمساحيق و الحثيرات لدى تحضير المضغوط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324000" y="33336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تثبيت الماء (روابط هيدروجينية) أو المواد العضوية مختلفة الاستقطابية لتشكيل هلامة مائية (بتركيز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40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) أو عضوية ( بتركيز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)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24000" y="1341360"/>
            <a:ext cx="8569080" cy="8654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يستخدم بشكل خاص لتهلم الزيوت النباتية و المحلات قليلة الاستقطابية و هو لا يناسب لتثبيت المستحلبات م/ز (ألفة عالية لمائها مما يخرب البنية الهلامية)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5724360" y="2565360"/>
            <a:ext cx="29512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2-2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البنتون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38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24000" y="328464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و دي ميتيل – دي ألكيل أمونيوم هكتوريت يستخدم في الأشكال ذات الاستعمال الخارجي ويمكن استعماله في تثبيت مستحلبات م/ز و المعلقات الزيتية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5076720" y="4511520"/>
            <a:ext cx="3598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2-3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ستئرات الألمنيوم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324000" y="5227560"/>
            <a:ext cx="8569080" cy="8654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تضاف للزيوت لتكسبها خصائص تكسوتروبية(حرارة عالية , </a:t>
            </a: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Alugel 34 tn</a:t>
            </a: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 و هو ثلاثي شحمات الألمنيوم </a:t>
            </a:r>
            <a:r>
              <a:rPr b="1" lang="fr-FR" sz="2600" spc="-1" strike="noStrike">
                <a:solidFill>
                  <a:srgbClr val="333399"/>
                </a:solidFill>
                <a:latin typeface="Arial"/>
              </a:rPr>
              <a:t>mp = 115-125°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) تركيز 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4067280" y="404640"/>
            <a:ext cx="46083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6-2-2-4- 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الشموع مجهرية التبلور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24000" y="1123920"/>
            <a:ext cx="8569080" cy="865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هيدروكربونات قريبة من بنية البارافين الصلب تشكل هلامة متينة تثبت أمزجة المواد الدسمة و الكريمات م/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835280" y="2205000"/>
            <a:ext cx="6807240" cy="1727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بدي المواد المهلمة للأجسام الدسمة المساوىء التالية :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انخفاض في قدرة السواغات على امتصاص الماء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ازدياد في القوام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ازدياد في نقاط الانصهار و التصل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788000" y="4440240"/>
            <a:ext cx="41050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6-3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كثيرات الإيتيلين غليكول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24000" y="5227560"/>
            <a:ext cx="8569080" cy="8654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600" spc="-1" strike="noStrike">
                <a:solidFill>
                  <a:srgbClr val="333399"/>
                </a:solidFill>
                <a:latin typeface="Arial"/>
              </a:rPr>
              <a:t>البولي أوكسي إيتيلين غلبكول هي مواد متماثرة ناتجة عن تكاثف جزيئات أوكسيد الإيتيلين و الماء و ذلك بوجود وسيط قلوي كالصود أو البوتاس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32000" y="333360"/>
            <a:ext cx="5543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4.1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فحوم غير المشبعة و مشتقات الهدرجة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300720" y="1052640"/>
            <a:ext cx="23749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سكوالين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284720" y="2924280"/>
            <a:ext cx="4319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2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الغليسيريدات طبيعية المنشأ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546200" y="1701720"/>
            <a:ext cx="568980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سكوالان مشتقه المهدرج (ثابت) يستخدم لتأثيره المطري في الكريمات و حمرة الشفاه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924360" y="3573360"/>
            <a:ext cx="47512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1.2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غليسيريدات ذات المنشأ النباتي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68360" y="4149720"/>
            <a:ext cx="820908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كثرها استخداما هنا هي الزيوت , غليسيريدات ثلاثية لحموض دسمة عالية الوزن الجزيئي مشبعة و غير مشبعة (الشحم و النخل و الزيت)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050920" y="5157720"/>
            <a:ext cx="66265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واصفات الزيوت النباتية الأكثر احتمالا من قبل الجلد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5508720" y="5735520"/>
            <a:ext cx="3166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قرينة حموضة ضعي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971640" y="5734080"/>
            <a:ext cx="4319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خالية من بعض الحم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1620720" y="6311880"/>
            <a:ext cx="62643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خالية أو تحتوي على نسبة ضئيلة من حمض الغار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411280" y="404640"/>
            <a:ext cx="62643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ميزات المراهم المكونة من متعددات الإيتيلين غليكول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187280" y="1052640"/>
            <a:ext cx="7455240" cy="1008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انحلاليتها في الماء تجعلها سهلة الغسل و الإزالة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متص الماء بسهولة كبيرة مما يؤدي إلى تجفاف الجل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364000" y="2206800"/>
            <a:ext cx="331164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تنافراتها (وجود الشوائب)</a:t>
            </a:r>
            <a:r>
              <a:rPr b="1" lang="ar-SY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30200" y="2852640"/>
            <a:ext cx="8462880" cy="2592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حوي مواد مرجعة كالألدهيدات (إرجاع أملاح الفضة و يتكون كبريت الهيدروجين على حساب المركبات السلفاميدية)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حوي فوق الأكاسيد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كون معقدات مع العديد من المواد الدوائية كاليود و المواد الفينولية و السلفاميدات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تبطل فعالية بعض المضادات الحيوية (البنسلين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والباسيتراسين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5508720" y="404640"/>
            <a:ext cx="3166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قدرة اختراقية متوسط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508720" y="1055520"/>
            <a:ext cx="3166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تتأكسد بسهو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651640" y="170028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1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زيت اللوز الحلو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1280" y="2276640"/>
            <a:ext cx="8245440" cy="5029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أكثراستخداما (لاحتماله من قبل الجلد و لتأثيره المطري), يغ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651640" y="292428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2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زيت الأراشيد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11280" y="3500280"/>
            <a:ext cx="824544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كبديل, غير مخرش ولا محسس ,في معاجين و معلقات أوكسيد الزن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5651640" y="414972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3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زيت الأفو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576360" y="4724280"/>
            <a:ext cx="838836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يستخدم في م ت لاحتوائه على الليستين و فيتامينات و لقدرته الاختراق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5651640" y="537372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4- 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زيوت الرش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554040" y="6021360"/>
            <a:ext cx="838836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عطية للفيتامينات أشهرها استعمالا زيت رشيم القمح و الذرة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468360" y="285840"/>
            <a:ext cx="838836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حتوي طليعة فيتامين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E , F , D  ,  A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والليستين و ستيرولات نب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651640" y="857160"/>
            <a:ext cx="2952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زيت بذر القط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651640" y="142884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زيت بذر الكت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5651640" y="314172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7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زيت الزيت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651640" y="3855960"/>
            <a:ext cx="2952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8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زيت الخ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44360" y="4429080"/>
            <a:ext cx="8891640" cy="1081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تحضير المنظفات الشارسبية (السلفوريسين أوليات)وزيت الخروع السلفاتي في الشامبوات, حال لحمض الصفصاف, و ملدن (العناية بالأظاف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651640" y="5570640"/>
            <a:ext cx="29527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9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زيت السمس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68360" y="6140520"/>
            <a:ext cx="824544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في (م ج) و( م ت) محل زيت الزيتون و زيت اللوز الحلو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49280" y="2071800"/>
            <a:ext cx="8245440" cy="8604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رائح</a:t>
            </a:r>
            <a:r>
              <a:rPr b="1" lang="ar-SA" sz="2400" spc="-1" strike="noStrike">
                <a:solidFill>
                  <a:srgbClr val="000099"/>
                </a:solidFill>
                <a:latin typeface="Arial"/>
              </a:rPr>
              <a:t>ة</a:t>
            </a: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 كريهة </a:t>
            </a:r>
            <a:r>
              <a:rPr b="1" lang="ar-SA" sz="24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ميل شديد نحو الأكسدة الذاتية و تبدل قوامه إلى الراتنجي الصمغي</a:t>
            </a: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قديماً الحروق </a:t>
            </a:r>
            <a:r>
              <a:rPr b="1" lang="ar-SA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lang="ar-SY" sz="2400" spc="-1" strike="noStrike">
                <a:solidFill>
                  <a:srgbClr val="000099"/>
                </a:solidFill>
                <a:latin typeface="Arial"/>
              </a:rPr>
              <a:t>المروخ الزيتي  الكلسي و هو مصدر هام لفيتا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780000" y="333360"/>
            <a:ext cx="489564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.2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غليسيريدات ذات المنشأ الحيواني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300720" y="981000"/>
            <a:ext cx="2374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شحم الخنز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11280" y="1628640"/>
            <a:ext cx="824544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ادة دسمة رخوة , يستحصل عليه من صهر النسيج الدهني حول كليتي الخنزير, أبيض اللون, يتكون من الزيتين و النخلين و الشحم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11280" y="2637000"/>
            <a:ext cx="8245440" cy="129672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يزنخ (مخرش مع رائحة كريهة) يتنافر مع القلويات القوية التي تصبنه, امتصاص ضعيف للماء, الطازج(لا يحسس, قدرته الاختراقية أعلى منها للزيوت النباتية)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084720" y="4076640"/>
            <a:ext cx="2590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زيوت كبد السم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11280" y="4726080"/>
            <a:ext cx="824544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زيت كبد الحوت , تستخدم لغناها بفيتامينات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A D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في معالجة الحروق و التقرحات و الجروح يدخل في تركيب المروخ الزيتي الكلس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851280" y="5734080"/>
            <a:ext cx="482436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زيت السلحفاة البحرية و زيت الفيزون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948360" y="333360"/>
            <a:ext cx="17272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شح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11280" y="1125360"/>
            <a:ext cx="824544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هو النسيج الشحمي للجوف البطني للثور و الخروف , كمادة أولية , 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غليسيريدات ثلاثية (الشحمات و النخلات و الزيتا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1280" y="2060640"/>
            <a:ext cx="8245440" cy="863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أما الشحمين فيحضر بالإماهة الحامضية للشحوم ,تبريد ثم عصر, كتلة صلبة (حمض الشحم و حمض النخل) مع حمض الزيت و الغليسر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003640" y="3143160"/>
            <a:ext cx="36007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- الشموع طبيعية المنش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500720" y="3790800"/>
            <a:ext cx="4174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1.3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شموع ذات المنشأ النباتي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516720" y="4440240"/>
            <a:ext cx="21589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شمع الخرن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11280" y="5157720"/>
            <a:ext cx="8245440" cy="12956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نخيل , ألوان مختلفة حسب نقاوته ,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82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85.5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- يتكون من راتنج و نسبة عالية لحموض و أغوال أليفاتية ذات وزن جزيئي عالي و استراتها يستخدم كرافع قوام في م ج و م 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140360" y="334800"/>
            <a:ext cx="453528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2.3- </a:t>
            </a:r>
            <a:r>
              <a:rPr b="1" lang="ar-SY" sz="2800" spc="-1" strike="noStrike">
                <a:solidFill>
                  <a:srgbClr val="cc3300"/>
                </a:solidFill>
                <a:latin typeface="Arial"/>
              </a:rPr>
              <a:t>الشموع ذات المنشأ الحيو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516720" y="981000"/>
            <a:ext cx="215892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1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شمع النح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11280" y="1628640"/>
            <a:ext cx="8245440" cy="17290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النقاوة , يتكون من حموض حرة (السيروتيك) و كمية كبيرة من استرات لأغوال و حموض أليفاتية ذات وزن جزيئي عالي ,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mp</a:t>
            </a:r>
            <a:br>
              <a:rPr sz="2800"/>
            </a:b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60 -65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مئويةالشمعيات (التجميلية و جالينوس و الورد) و الكولد كريم و رفع قوام المراهم ( يثبط من فعالية </a:t>
            </a:r>
            <a:r>
              <a:rPr b="1" lang="ar-SY" sz="2800" spc="-1" strike="noStrike">
                <a:solidFill>
                  <a:srgbClr val="ff0000"/>
                </a:solidFill>
                <a:latin typeface="Arial"/>
              </a:rPr>
              <a:t>الإريترومايسين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516720" y="3648240"/>
            <a:ext cx="215892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2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أبيض الب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11280" y="4292640"/>
            <a:ext cx="8245440" cy="158436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شمع غني باسترات لحموض (النخل و الشمع ) و أغوال أليفاتية ( السيتيلي و الستيريلي )  ذات وزن جزيئي عالي ,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mp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45 -49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مئوية  لزيادة قوام الشمعيات التجميلية و الكولد كر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77080" y="333360"/>
            <a:ext cx="1798560" cy="50184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3– 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اللانولين</a:t>
            </a: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1280" y="1052640"/>
            <a:ext cx="8245440" cy="223200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مزيج من شحم الصوف (الليبيدات المشكلة خلال عمليات التقرن) مصالة الصوف (إفرازات الغدد الدهنية لجلد الخروف )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94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% من وزنه استرات لحموض دسمة و أغوال أليفاتية طويلة السلسلة و ستيرولات (كوليستيرول) تركيبه قريب من دسم المفرز الدهني لذلك فهو يستعمل  لقدرته الاختراقية و المطرية و قدرة استحلابية م/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093080" y="3432240"/>
            <a:ext cx="1511280" cy="5014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6600"/>
                </a:solidFill>
                <a:latin typeface="Arial"/>
              </a:rPr>
              <a:t>محاذي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211640" y="4292640"/>
            <a:ext cx="39607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1-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حساس جدا تجاه الأكس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19640" y="4933800"/>
            <a:ext cx="47527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2-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قدرة استحلابية محدودة في م  م/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203640" y="5584680"/>
            <a:ext cx="4968720" cy="503280"/>
          </a:xfrm>
          <a:prstGeom prst="rect">
            <a:avLst/>
          </a:prstGeom>
          <a:gradFill rotWithShape="0">
            <a:gsLst>
              <a:gs pos="0">
                <a:srgbClr val="999ea2"/>
              </a:gs>
              <a:gs pos="50000">
                <a:srgbClr val="c9d0d5"/>
              </a:gs>
              <a:gs pos="100000">
                <a:srgbClr val="999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3- 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يعطي تفاعلات تحسسية (تنقية )</a:t>
            </a:r>
            <a:r>
              <a:rPr b="1" lang="ar-SY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9:57:17Z</dcterms:created>
  <dc:creator>Tamim Hammad</dc:creator>
  <dc:description/>
  <dc:language>en-US</dc:language>
  <cp:lastModifiedBy>HPU_PC</cp:lastModifiedBy>
  <dcterms:modified xsi:type="dcterms:W3CDTF">2014-11-16T09:22:34Z</dcterms:modified>
  <cp:revision>148</cp:revision>
  <dc:subject/>
  <dc:title>الشريحة 1</dc:title>
</cp:coreProperties>
</file>