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A356-D5DB-4EBC-8ED1-89AB095B0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FF77-4F04-4DD2-84E4-7931905B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CC94-9339-4791-A20A-7B733261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7650-4197-463A-A8F4-36935CE9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1A4F-648B-4EB4-B502-9C6C7109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0BC0-B0C0-4729-B80A-A361D192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7D32-54DE-4831-A5E2-810C8F49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421B-D7B5-4472-BCB8-EE9F3F84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A18A-8CC6-48DE-AD23-8A1410DB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D66D-93E8-4782-BD27-7BEC30AF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F957-39A6-4034-9000-815E32A3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994E-69C7-4B57-8DDB-6F38F0C5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F8A427-DA66-48F8-B09B-8DD7706B469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CCDDB8-2FB6-4286-BA8D-7EE04B151759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3:08:41Z</dcterms:created>
  <dc:creator>최봉수</dc:creator>
  <dc:description/>
  <dc:language>en-US</dc:language>
  <cp:lastModifiedBy>맛있다 군만두</cp:lastModifiedBy>
  <dcterms:modified xsi:type="dcterms:W3CDTF">2024-09-24T08:24:04Z</dcterms:modified>
  <cp:revision>3</cp:revision>
  <dc:subject/>
  <dc:title>슬라이드 1</dc:title>
</cp:coreProperties>
</file>