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CE1-BBAB-4549-848E-BB0EC308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4CC-874A-4C8C-83F4-41D93CA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A28-BEF9-42F4-AE00-F6DEB6D2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C47-A984-4C2B-A5E7-AFF1B88D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481-8645-4E6F-BDCA-8F3DF91C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B87-4A97-4F34-A4D2-E98BEBE0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4EF-0D12-4E34-9963-22728FE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ACD-AEC2-4107-9539-4EBBE123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362-9C8F-4C7D-B7C1-CC06225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7D3-AEBE-4B2E-92A4-2CC5FEF6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3EC-A4FB-4C40-A5DF-DB2C55E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73E-3232-4CBF-9F23-FE484D0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05B79-4640-45D3-A604-9E2CD0DF7C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AC678-A205-4FA8-BD4E-A5FEFE1AC7F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08:41Z</dcterms:created>
  <dc:creator>최봉수</dc:creator>
  <dc:description/>
  <dc:language>en-US</dc:language>
  <cp:lastModifiedBy>맛있다 군만두</cp:lastModifiedBy>
  <dcterms:modified xsi:type="dcterms:W3CDTF">2024-09-24T08:24:04Z</dcterms:modified>
  <cp:revision>3</cp:revision>
  <dc:subject/>
  <dc:title>슬라이드 1</dc:title>
</cp:coreProperties>
</file>